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B3C-13F0-4E96-BCA5-C42E963B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3C8-0409-4486-BF4E-9FA6C77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298-A2CB-4651-BFF5-8197E2C0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4DA-F32F-4D54-BCE0-EA0E9E4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2A3-23D5-4887-BDEC-203430A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EEE-93E3-4909-8642-2BFAB2C4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8AA-83B3-428E-9DF7-81EFD02C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D7-49AD-4CA8-9FB8-1A749C18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B17-1963-4E31-B011-28D66DC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ED7-9186-4B97-8690-75DC9FC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EE6-3AF5-4056-886D-32DA9FD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676-708A-47C2-B7AA-606EB26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B64-6728-4599-BBEC-F0C8EA4B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5520" y="228600"/>
            <a:ext cx="41878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5943600"/>
            <a:ext cx="391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ecial Forces Troop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0" y="990720"/>
            <a:ext cx="4264200" cy="559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724280" y="304920"/>
            <a:ext cx="400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elping the Wounded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38080" y="6095880"/>
            <a:ext cx="298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e Taking Off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648320" y="838080"/>
            <a:ext cx="4267080" cy="581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724280" y="228600"/>
            <a:ext cx="414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oops on the way to Japan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07:07Z</dcterms:created>
  <dc:creator>Information Technology</dc:creator>
  <dc:description/>
  <dc:language>en-US</dc:language>
  <cp:lastModifiedBy>Information Technology</cp:lastModifiedBy>
  <dcterms:modified xsi:type="dcterms:W3CDTF">2010-02-10T13:16:51Z</dcterms:modified>
  <cp:revision>2</cp:revision>
  <dc:subject/>
  <dc:title>Slide 1</dc:title>
</cp:coreProperties>
</file>